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569F12-5F32-4B79-AB47-268654D7331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D89E22-FEA8-4410-ABCD-F0BBE15D51E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8F868A-1217-4B92-A52D-9A234BF5B3B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C9F-0D2C-4B97-A6AE-3AB8E5EF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198-7464-41F0-9CEA-0C9897F3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833-BA55-4042-A492-8A2B5238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C79-9815-4BF1-AE74-D8A0C079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3B9-7925-4D5D-AA05-430953A2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4A0-D6A2-46CA-AD71-A54AC3DB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8E4-E7BA-4310-A256-84378D7A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D3A-1DC9-40D5-9B00-20A2366B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2C9-2FA5-45FA-B42C-67397FF0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462-335F-416D-9C25-6670D445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ACD-C343-4566-BF59-CCF94C4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D66-F00F-465F-BAAE-D184477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115E-CE97-4B6E-BFE9-E5BDD91CC34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2920" y="1699920"/>
            <a:ext cx="729612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rebuchet MS"/>
              </a:rPr>
              <a:t>Première STI2D / ST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rebuchet MS"/>
              </a:rPr>
              <a:t>Programme de sciences physiques et chim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b0b"/>
                </a:solidFill>
                <a:latin typeface="Trebuchet MS"/>
              </a:rPr>
              <a:t>BO spéciale du 17 mars 2011</a:t>
            </a:r>
            <a:r>
              <a:rPr b="1" lang="fr-FR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701640" y="360360"/>
          <a:ext cx="12128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1212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8" descr=""/>
          <p:cNvPicPr/>
          <p:nvPr/>
        </p:nvPicPr>
        <p:blipFill>
          <a:blip r:embed="rId1"/>
          <a:srcRect l="0" t="24657" r="10433" b="6413"/>
          <a:stretch/>
        </p:blipFill>
        <p:spPr>
          <a:xfrm>
            <a:off x="900000" y="1995480"/>
            <a:ext cx="7383600" cy="392904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e la date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Espace réservé du numéro de diapositive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9CCC-8779-42DE-B27C-72350C7ECFE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Groupe 33"/>
          <p:cNvGrpSpPr/>
          <p:nvPr/>
        </p:nvGrpSpPr>
        <p:grpSpPr>
          <a:xfrm>
            <a:off x="3819600" y="2043000"/>
            <a:ext cx="2087640" cy="3600720"/>
            <a:chOff x="3819600" y="2043000"/>
            <a:chExt cx="2087640" cy="3600720"/>
          </a:xfrm>
        </p:grpSpPr>
        <p:sp>
          <p:nvSpPr>
            <p:cNvPr id="56" name="Oval 6"/>
            <p:cNvSpPr/>
            <p:nvPr/>
          </p:nvSpPr>
          <p:spPr>
            <a:xfrm>
              <a:off x="3819600" y="2043000"/>
              <a:ext cx="2016360" cy="433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4251240" y="2691000"/>
              <a:ext cx="1656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Connecteur droit 19"/>
            <p:cNvSpPr/>
            <p:nvPr/>
          </p:nvSpPr>
          <p:spPr>
            <a:xfrm>
              <a:off x="4539600" y="3267360"/>
              <a:ext cx="720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Connecteur droit 20"/>
            <p:cNvSpPr/>
            <p:nvPr/>
          </p:nvSpPr>
          <p:spPr>
            <a:xfrm>
              <a:off x="4539600" y="3651120"/>
              <a:ext cx="864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Connecteur droit 23"/>
            <p:cNvSpPr/>
            <p:nvPr/>
          </p:nvSpPr>
          <p:spPr>
            <a:xfrm>
              <a:off x="4539600" y="4131360"/>
              <a:ext cx="504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Connecteur droit 26"/>
            <p:cNvSpPr/>
            <p:nvPr/>
          </p:nvSpPr>
          <p:spPr>
            <a:xfrm flipV="1">
              <a:off x="4545720" y="4679280"/>
              <a:ext cx="439200" cy="72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Connecteur droit 29"/>
            <p:cNvSpPr/>
            <p:nvPr/>
          </p:nvSpPr>
          <p:spPr>
            <a:xfrm flipV="1">
              <a:off x="4539600" y="5643000"/>
              <a:ext cx="439200" cy="72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Connecteur droit 30"/>
            <p:cNvSpPr/>
            <p:nvPr/>
          </p:nvSpPr>
          <p:spPr>
            <a:xfrm>
              <a:off x="4539600" y="5067720"/>
              <a:ext cx="720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" name="Espace réservé du contenu 1"/>
          <p:cNvSpPr/>
          <p:nvPr/>
        </p:nvSpPr>
        <p:spPr>
          <a:xfrm>
            <a:off x="179280" y="476280"/>
            <a:ext cx="86439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colonne de droite régule celle de gauche par la taxonomie des verbes d’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3840" y="103320"/>
            <a:ext cx="8643960" cy="11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6 niveaux de la tax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062"/>
                </a:solidFill>
                <a:latin typeface="Trebuchet MS"/>
                <a:ea typeface="Times New Roman"/>
              </a:rPr>
              <a:t>Lien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njamin Bloom, 19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e la date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Espace réservé du numéro de diapositive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9A85-1A31-45A4-9103-C8309B22833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642960" y="2786040"/>
            <a:ext cx="7358040" cy="345456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8"/>
          <p:cNvSpPr/>
          <p:nvPr/>
        </p:nvSpPr>
        <p:spPr>
          <a:xfrm>
            <a:off x="571680" y="1214280"/>
            <a:ext cx="77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0181c"/>
                </a:solidFill>
                <a:latin typeface="Verdana"/>
              </a:rPr>
              <a:t>Lorin Anderson (ancien étudiant de Bloom) a révisé en 1991 la hiérarchie en plaçant l'habileté « jugement » (évaluation) avant l'habileté « synthèse » (création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0181c"/>
                </a:solidFill>
                <a:latin typeface="Verdana"/>
              </a:rPr>
              <a:t>En outre, les termes des catégories ont été légèrement modifié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contenu 1"/>
          <p:cNvSpPr/>
          <p:nvPr/>
        </p:nvSpPr>
        <p:spPr>
          <a:xfrm>
            <a:off x="2771640" y="907920"/>
            <a:ext cx="5357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062"/>
                </a:solidFill>
                <a:latin typeface="Trebuchet MS"/>
                <a:ea typeface="Times New Roman"/>
              </a:rPr>
              <a:t>Lien :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erbes 1erSTI2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49400"/>
            <a:ext cx="8244000" cy="83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verbes du programme 1erSTI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e la date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Espace réservé du numéro de diapositive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8D52-60B4-4D4E-B3B3-9B6A297B1D3B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00080" y="1428840"/>
            <a:ext cx="730080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71320" y="499680"/>
            <a:ext cx="824364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e la date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Espace réservé du numéro de diapositive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C16E-B106-4C42-87FF-B8D0CA07348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Espace réservé du contenu 1"/>
          <p:cNvSpPr/>
          <p:nvPr/>
        </p:nvSpPr>
        <p:spPr>
          <a:xfrm>
            <a:off x="285840" y="2071800"/>
            <a:ext cx="8858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0181c"/>
                </a:solidFill>
                <a:latin typeface="Verdana"/>
              </a:rPr>
              <a:t>     </a:t>
            </a:r>
            <a:r>
              <a:rPr b="0" lang="fr-FR" sz="1800" spc="-1" strike="noStrike">
                <a:solidFill>
                  <a:srgbClr val="10181c"/>
                </a:solidFill>
                <a:latin typeface="Verdana"/>
              </a:rPr>
              <a:t>L'intérêt du travail de Bloom est qu'il propose une série de </a:t>
            </a:r>
            <a:r>
              <a:rPr b="1" lang="fr-FR" sz="1800" spc="-1" strike="noStrike">
                <a:solidFill>
                  <a:srgbClr val="10181c"/>
                </a:solidFill>
                <a:latin typeface="Verdana"/>
              </a:rPr>
              <a:t>verbes </a:t>
            </a:r>
            <a:r>
              <a:rPr b="0" lang="fr-FR" sz="1800" spc="-1" strike="noStrike">
                <a:solidFill>
                  <a:srgbClr val="10181c"/>
                </a:solidFill>
                <a:latin typeface="Verdana"/>
              </a:rPr>
              <a:t>qui décrivent les comportements intellectuels de chaque étage de la pyram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0181c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10181c"/>
                </a:solidFill>
                <a:latin typeface="Verdana"/>
              </a:rPr>
              <a:t>Ces verbes renvoient à des observables et permettent par exemple aux enseignants de </a:t>
            </a:r>
            <a:r>
              <a:rPr b="1" lang="fr-FR" sz="1800" spc="-1" strike="noStrike">
                <a:solidFill>
                  <a:srgbClr val="10181c"/>
                </a:solidFill>
                <a:latin typeface="Verdana"/>
              </a:rPr>
              <a:t>rédiger des objectifs d'apprentissage précis</a:t>
            </a:r>
            <a:r>
              <a:rPr b="0" lang="fr-FR" sz="1800" spc="-1" strike="noStrike">
                <a:solidFill>
                  <a:srgbClr val="10181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14:03:31Z</dcterms:created>
  <dc:creator>Inspection Physique Chimie</dc:creator>
  <dc:description/>
  <dc:language>en-US</dc:language>
  <cp:lastModifiedBy>Tessier Florent</cp:lastModifiedBy>
  <dcterms:modified xsi:type="dcterms:W3CDTF">2011-08-24T08:53:44Z</dcterms:modified>
  <cp:revision>230</cp:revision>
  <dc:subject/>
  <dc:title>information professeur programme 2nde - juin 2010</dc:title>
</cp:coreProperties>
</file>