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on des capacités expériment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FF621-27B4-44B6-B0F5-1EC32D96AF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on des capacités expériment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145F5-E224-44D0-B359-47AA0F8799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on des capacités expériment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0C4A0-B92F-454C-9FFC-CDECD639CD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on des capacités expériment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B9067-742C-4829-A944-47DCC85601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on des capacités expériment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A58DD-2786-4F35-AEEE-61B5DE858E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Univers-CondensedLight"/>
              <a:ea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on des capacités expériment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52694-5A19-48C6-B837-555C60ACCB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on des capacités expériment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F017B-FECC-4FCF-9421-BCC8AAE3D7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on des capacités expériment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6BAD5-9694-4BB9-BBE8-10F16BC4CB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on des capacités expériment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C65F3-F22D-4885-94CC-F120879F3B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on des capacités expériment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653B4-E594-4750-8D49-C58BD9D78E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on des capacités expériment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4CD7D-517B-4866-8D9B-1FAA39208D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on des capacités expériment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68B66-12F1-4745-8D54-3B95AC8E43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on des capacités expériment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55402-76D4-48D3-889D-404FEE97EF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Univers-CondensedLight"/>
              <a:ea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on des capacités expériment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17FBA-C94F-48A8-8D18-545A77FFB9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on des capacités expériment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3D10C-5340-4858-A8C2-AB68156440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Univers-CondensedLight"/>
              <a:ea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on des capacités expériment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9A387-3035-4E5B-9A4D-38F3805D03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on des capacités expériment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536B7-C6DA-4B26-9DF0-889A5BBA9F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on des capacités expériment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A8AFA-11B2-4C96-B15A-87BE700ACD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on des capacités expériment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408FB-2545-411B-8E4E-C60FB539A0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on des capacités expériment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15F9B-28CE-49B0-A56C-C67BC8D513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on des capacités expériment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C46FC-4B21-4832-BFE3-7D6C408AA2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E6928-C35E-40ED-BA9F-C6465BA44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5446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54072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6680" y="4312800"/>
            <a:ext cx="54072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58C13-DBF3-4367-AAAE-AD8CA26E2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5446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2638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37600" y="2101320"/>
            <a:ext cx="2638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2638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37600" y="4312800"/>
            <a:ext cx="2638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4B5D0-3C8E-4D85-8056-99D01BEAD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5446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174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120" y="2101320"/>
            <a:ext cx="174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23560" y="2101320"/>
            <a:ext cx="174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6680" y="4312800"/>
            <a:ext cx="174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95120" y="4312800"/>
            <a:ext cx="174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723560" y="4312800"/>
            <a:ext cx="174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EEF7F-D569-4E07-87EC-03A427B23F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5446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6680" y="2101320"/>
            <a:ext cx="54072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EB5DA-48B2-4A5E-8EC3-07E221BE24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5446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54072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1447F-A506-4500-96AC-6F03C996B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5446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2638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37600" y="2101320"/>
            <a:ext cx="2638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64277-9094-4A84-B537-BCBC25CBC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5446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2F4C-04FB-46DC-992C-2EAC7028D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544680"/>
            <a:ext cx="77695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B3B01-3DE4-483C-AC69-3DE75E990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5446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2638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37600" y="2101320"/>
            <a:ext cx="2638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2638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8A5C1-DA80-43D6-93BD-B68FDF3F2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5446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2638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37600" y="2101320"/>
            <a:ext cx="2638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37600" y="4312800"/>
            <a:ext cx="2638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6E7BE-DD6D-43B1-9090-09981C98C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5446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2638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37600" y="2101320"/>
            <a:ext cx="2638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54072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1F8C-263B-43ED-9B09-13D30874B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228600" y="1295280"/>
            <a:ext cx="8763120" cy="5562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5446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6680" y="2101320"/>
            <a:ext cx="54072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921240" indent="-40824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230120" indent="-20556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538640" indent="-20556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1851480" indent="-20556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685800" y="632160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3720" y="6324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2a3d7a"/>
                </a:solidFill>
                <a:latin typeface="Times New Roman"/>
              </a:rPr>
              <a:t>Animations pédagogiques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F55FD6-01F3-44A8-A7D7-B6C32BDA0D1E}" type="slidenum">
              <a:rPr b="0" lang="fr-FR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39640" y="836640"/>
            <a:ext cx="7993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Préambul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du programme d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1</a:t>
            </a:r>
            <a:r>
              <a:rPr b="1" lang="en-GB" sz="5400" spc="-1" strike="noStrike" baseline="30000">
                <a:solidFill>
                  <a:srgbClr val="3333cc"/>
                </a:solidFill>
                <a:latin typeface="Times New Roman"/>
                <a:ea typeface="Arial Unicode MS"/>
              </a:rPr>
              <a:t>ere</a:t>
            </a:r>
            <a:r>
              <a:rPr b="1" lang="en-GB" sz="5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STI2D et 1</a:t>
            </a:r>
            <a:r>
              <a:rPr b="1" lang="en-GB" sz="5400" spc="-1" strike="noStrike" baseline="30000">
                <a:solidFill>
                  <a:srgbClr val="3333cc"/>
                </a:solidFill>
                <a:latin typeface="Times New Roman"/>
                <a:ea typeface="Arial Unicode MS"/>
              </a:rPr>
              <a:t>ere</a:t>
            </a:r>
            <a:r>
              <a:rPr b="1" lang="en-GB" sz="5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ST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 </a:t>
            </a: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BO special du 17 mars 2011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6D1E3-F2D2-493E-9782-EE610810F138}" type="slidenum">
              <a:rPr b="0" lang="fr-FR" sz="28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7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E865A-8666-400C-B919-73580E8C2AE5}" type="slidenum">
              <a:rPr b="0" lang="fr-FR" sz="28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68360" y="476280"/>
            <a:ext cx="777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Groupe 26"/>
          <p:cNvGrpSpPr/>
          <p:nvPr/>
        </p:nvGrpSpPr>
        <p:grpSpPr>
          <a:xfrm>
            <a:off x="1908000" y="1628640"/>
            <a:ext cx="5185080" cy="1656000"/>
            <a:chOff x="1908000" y="1628640"/>
            <a:chExt cx="5185080" cy="1656000"/>
          </a:xfrm>
        </p:grpSpPr>
        <p:sp>
          <p:nvSpPr>
            <p:cNvPr id="93" name="Text Box 2"/>
            <p:cNvSpPr/>
            <p:nvPr/>
          </p:nvSpPr>
          <p:spPr>
            <a:xfrm>
              <a:off x="2196000" y="1844640"/>
              <a:ext cx="46090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indent="11124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3333cc"/>
                  </a:solidFill>
                  <a:latin typeface="Times New Roman"/>
                  <a:ea typeface="Arial Unicode MS"/>
                </a:rPr>
                <a:t>Programme de 1</a:t>
              </a:r>
              <a:r>
                <a:rPr b="1" lang="en-GB" sz="3200" spc="-1" strike="noStrike" baseline="30000">
                  <a:solidFill>
                    <a:srgbClr val="3333cc"/>
                  </a:solidFill>
                  <a:latin typeface="Times New Roman"/>
                  <a:ea typeface="Arial Unicode MS"/>
                </a:rPr>
                <a:t>e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3333cc"/>
                  </a:solidFill>
                  <a:latin typeface="Times New Roman"/>
                </a:rPr>
                <a:t>STI2D / ST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Ellipse 8"/>
            <p:cNvSpPr/>
            <p:nvPr/>
          </p:nvSpPr>
          <p:spPr>
            <a:xfrm>
              <a:off x="1908000" y="1628640"/>
              <a:ext cx="5185080" cy="1656000"/>
            </a:xfrm>
            <a:prstGeom prst="ellipse">
              <a:avLst/>
            </a:prstGeom>
            <a:noFill/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Groupe 18"/>
          <p:cNvGrpSpPr/>
          <p:nvPr/>
        </p:nvGrpSpPr>
        <p:grpSpPr>
          <a:xfrm>
            <a:off x="0" y="3068640"/>
            <a:ext cx="4643280" cy="1873080"/>
            <a:chOff x="0" y="3068640"/>
            <a:chExt cx="4643280" cy="1873080"/>
          </a:xfrm>
        </p:grpSpPr>
        <p:sp>
          <p:nvSpPr>
            <p:cNvPr id="96" name="Text Box 4"/>
            <p:cNvSpPr/>
            <p:nvPr/>
          </p:nvSpPr>
          <p:spPr>
            <a:xfrm>
              <a:off x="0" y="3573000"/>
              <a:ext cx="464328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indent="11124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Connaissances et compétences disciplinaires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97" name="Connecteur droit avec flèche 12"/>
            <p:cNvCxnSpPr/>
            <p:nvPr/>
          </p:nvCxnSpPr>
          <p:spPr>
            <a:xfrm flipH="1">
              <a:off x="1978560" y="3068640"/>
              <a:ext cx="720360" cy="576360"/>
            </a:xfrm>
            <a:prstGeom prst="straightConnector1">
              <a:avLst/>
            </a:prstGeom>
            <a:ln w="4428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98" name="Groupe 30"/>
          <p:cNvGrpSpPr/>
          <p:nvPr/>
        </p:nvGrpSpPr>
        <p:grpSpPr>
          <a:xfrm>
            <a:off x="4354560" y="3141720"/>
            <a:ext cx="4789440" cy="1871640"/>
            <a:chOff x="4354560" y="3141720"/>
            <a:chExt cx="4789440" cy="1871640"/>
          </a:xfrm>
        </p:grpSpPr>
        <p:sp>
          <p:nvSpPr>
            <p:cNvPr id="99" name="Text Box 4"/>
            <p:cNvSpPr/>
            <p:nvPr/>
          </p:nvSpPr>
          <p:spPr>
            <a:xfrm>
              <a:off x="4354560" y="3789360"/>
              <a:ext cx="47894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indent="11124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Compétences transvers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0" name="Connecteur droit avec flèche 14"/>
            <p:cNvCxnSpPr>
              <a:endCxn id="99" idx="0"/>
            </p:cNvCxnSpPr>
            <p:nvPr/>
          </p:nvCxnSpPr>
          <p:spPr>
            <a:xfrm>
              <a:off x="6046920" y="3141720"/>
              <a:ext cx="702360" cy="648360"/>
            </a:xfrm>
            <a:prstGeom prst="straightConnector1">
              <a:avLst/>
            </a:prstGeom>
            <a:ln w="4428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101" name="Groupe 21"/>
          <p:cNvGrpSpPr/>
          <p:nvPr/>
        </p:nvGrpSpPr>
        <p:grpSpPr>
          <a:xfrm>
            <a:off x="2050920" y="4436640"/>
            <a:ext cx="6050160" cy="2016720"/>
            <a:chOff x="2050920" y="4436640"/>
            <a:chExt cx="6050160" cy="2016720"/>
          </a:xfrm>
        </p:grpSpPr>
        <p:grpSp>
          <p:nvGrpSpPr>
            <p:cNvPr id="102" name="Groupe 27"/>
            <p:cNvGrpSpPr/>
            <p:nvPr/>
          </p:nvGrpSpPr>
          <p:grpSpPr>
            <a:xfrm>
              <a:off x="2050920" y="5229360"/>
              <a:ext cx="6050160" cy="1224000"/>
              <a:chOff x="2050920" y="5229360"/>
              <a:chExt cx="6050160" cy="1224000"/>
            </a:xfrm>
          </p:grpSpPr>
          <p:sp>
            <p:nvSpPr>
              <p:cNvPr id="103" name="Text Box 2"/>
              <p:cNvSpPr/>
              <p:nvPr/>
            </p:nvSpPr>
            <p:spPr>
              <a:xfrm>
                <a:off x="2482920" y="5445360"/>
                <a:ext cx="5618160" cy="93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lvl="1" marL="457200" indent="111240"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457200"/>
                    <a:tab algn="l" pos="905040"/>
                    <a:tab algn="l" pos="1353960"/>
                    <a:tab algn="l" pos="1803240"/>
                    <a:tab algn="l" pos="2252520"/>
                    <a:tab algn="l" pos="2701800"/>
                    <a:tab algn="l" pos="3151080"/>
                    <a:tab algn="l" pos="3600360"/>
                    <a:tab algn="l" pos="4049640"/>
                    <a:tab algn="l" pos="4498920"/>
                    <a:tab algn="l" pos="4948200"/>
                    <a:tab algn="l" pos="5397480"/>
                    <a:tab algn="l" pos="5846760"/>
                    <a:tab algn="l" pos="6296040"/>
                    <a:tab algn="l" pos="6745320"/>
                    <a:tab algn="l" pos="7194600"/>
                    <a:tab algn="l" pos="7643880"/>
                    <a:tab algn="l" pos="8093160"/>
                    <a:tab algn="l" pos="8542440"/>
                    <a:tab algn="l" pos="8991720"/>
                    <a:tab algn="l" pos="944100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3200" spc="-1" strike="noStrike">
                    <a:solidFill>
                      <a:srgbClr val="3333cc"/>
                    </a:solidFill>
                    <a:latin typeface="Times New Roman"/>
                    <a:ea typeface="Arial Unicode MS"/>
                  </a:rPr>
                  <a:t>Entrée thématique 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 indent="111240" algn="ctr"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457200"/>
                    <a:tab algn="l" pos="905040"/>
                    <a:tab algn="l" pos="1353960"/>
                    <a:tab algn="l" pos="1803240"/>
                    <a:tab algn="l" pos="2252520"/>
                    <a:tab algn="l" pos="2701800"/>
                    <a:tab algn="l" pos="3151080"/>
                    <a:tab algn="l" pos="3600360"/>
                    <a:tab algn="l" pos="4049640"/>
                    <a:tab algn="l" pos="4498920"/>
                    <a:tab algn="l" pos="4948200"/>
                    <a:tab algn="l" pos="5397480"/>
                    <a:tab algn="l" pos="5846760"/>
                    <a:tab algn="l" pos="6296040"/>
                    <a:tab algn="l" pos="6745320"/>
                    <a:tab algn="l" pos="7194600"/>
                    <a:tab algn="l" pos="7643880"/>
                    <a:tab algn="l" pos="8093160"/>
                    <a:tab algn="l" pos="8542440"/>
                    <a:tab algn="l" pos="8991720"/>
                    <a:tab algn="l" pos="9441000"/>
                    <a:tab algn="l" pos="9883800"/>
                    <a:tab algn="l" pos="10333080"/>
                    <a:tab algn="l" pos="1078236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Ellipse 10"/>
              <p:cNvSpPr/>
              <p:nvPr/>
            </p:nvSpPr>
            <p:spPr>
              <a:xfrm>
                <a:off x="2050920" y="5229360"/>
                <a:ext cx="5186520" cy="1224000"/>
              </a:xfrm>
              <a:prstGeom prst="ellipse">
                <a:avLst/>
              </a:prstGeom>
              <a:noFill/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105" name="Connecteur droit avec flèche 16"/>
            <p:cNvCxnSpPr/>
            <p:nvPr/>
          </p:nvCxnSpPr>
          <p:spPr>
            <a:xfrm flipV="1">
              <a:off x="5940360" y="4436640"/>
              <a:ext cx="648360" cy="864720"/>
            </a:xfrm>
            <a:prstGeom prst="straightConnector1">
              <a:avLst/>
            </a:prstGeom>
            <a:ln w="442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6" name="Connecteur droit avec flèche 20"/>
            <p:cNvCxnSpPr/>
            <p:nvPr/>
          </p:nvCxnSpPr>
          <p:spPr>
            <a:xfrm flipH="1" flipV="1">
              <a:off x="2339280" y="4580640"/>
              <a:ext cx="792720" cy="720720"/>
            </a:xfrm>
            <a:prstGeom prst="straightConnector1">
              <a:avLst/>
            </a:prstGeom>
            <a:ln w="4428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116000" y="2205000"/>
            <a:ext cx="65865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Les compétences </a:t>
            </a:r>
            <a:r>
              <a:rPr b="1" lang="fr-FR" sz="60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transversal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82296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740EC-B451-488B-B8FE-9D3E7048DCC4}" type="slidenum">
              <a:rPr b="0" lang="fr-FR" sz="28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" name="Object 7"/>
          <p:cNvGraphicFramePr/>
          <p:nvPr/>
        </p:nvGraphicFramePr>
        <p:xfrm>
          <a:off x="-11160" y="176040"/>
          <a:ext cx="12128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" y="176040"/>
                    <a:ext cx="1212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5"/>
          <p:cNvSpPr/>
          <p:nvPr/>
        </p:nvSpPr>
        <p:spPr>
          <a:xfrm>
            <a:off x="179280" y="0"/>
            <a:ext cx="88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Préambule du programme de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  <a:ea typeface="Arial Unicode MS"/>
              </a:rPr>
              <a:t>er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STI2D / ST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39640" y="476280"/>
            <a:ext cx="8280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La démarche expériment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 pratique scientifique nécessite l’utilisation d’un langage spécifique. L’élève doit donc pouvoir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’exprimer avec un langage scientifique rigoureux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hoisir des unités adaptées aux grandeurs physiques étudiées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utiliser l’analyse dimensionnell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évaluer les ordres de grandeur d’un résultat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0DD87-EFBD-400A-AFE6-164F12B75DB3}" type="slidenum">
              <a:rPr b="0" lang="fr-FR" sz="28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79280" y="0"/>
            <a:ext cx="88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Préambule du programme de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  <a:ea typeface="Arial Unicode MS"/>
              </a:rPr>
              <a:t>er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STI2D / ST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411280" y="4869000"/>
            <a:ext cx="4248360" cy="1224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apacités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e la compétence disciplinaire 3 du socl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55640" y="620640"/>
            <a:ext cx="777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La démarche scientifiqu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itier l’élève à la démarche scientifique, c’est lui permettre de développer des compétences nécessaires pour </a:t>
            </a:r>
            <a:r>
              <a:rPr b="0" lang="fr-FR" sz="24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prendre des décisions raisonnables et éclairées dans les nombreuses situations nouvelles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qu’il rencontrera tout au long de sa vie et, ainsi, </a:t>
            </a:r>
            <a:r>
              <a:rPr b="0" lang="fr-FR" sz="2400" spc="-1" strike="noStrike" u="sng">
                <a:solidFill>
                  <a:srgbClr val="0033cc"/>
                </a:solidFill>
                <a:uFillTx/>
                <a:latin typeface="Times New Roman"/>
                <a:ea typeface="Arial Unicode MS"/>
              </a:rPr>
              <a:t>le conduire à devenir un adulte libre, autonome et responsable</a:t>
            </a:r>
            <a:r>
              <a:rPr b="0" lang="fr-FR" sz="2800" spc="-1" strike="noStrike">
                <a:solidFill>
                  <a:srgbClr val="0033cc"/>
                </a:solidFill>
                <a:latin typeface="Times New Roman"/>
                <a:ea typeface="Arial Unicode MS"/>
              </a:rPr>
              <a:t>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”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09F9F-F852-4A65-AD26-26EA1109EA2D}" type="slidenum">
              <a:rPr b="0" lang="fr-FR" sz="28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50920" y="4941720"/>
            <a:ext cx="4357440" cy="13687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Capacités</a:t>
            </a:r>
            <a:r>
              <a:rPr b="0" lang="fr-FR" sz="2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de la compétence transversale 7 du socl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716360" y="4941720"/>
            <a:ext cx="4138560" cy="13687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 u="sng">
                <a:solidFill>
                  <a:srgbClr val="0033cc"/>
                </a:solidFill>
                <a:uFillTx/>
                <a:latin typeface="Times New Roman"/>
                <a:ea typeface="Arial Unicode MS"/>
              </a:rPr>
              <a:t>Capacité</a:t>
            </a:r>
            <a:r>
              <a:rPr b="0" lang="fr-FR" sz="2600" spc="-1" strike="noStrike">
                <a:solidFill>
                  <a:srgbClr val="0033cc"/>
                </a:solidFill>
                <a:latin typeface="Times New Roman"/>
                <a:ea typeface="Arial Unicode MS"/>
              </a:rPr>
              <a:t> de la compétence transversale 6 du socl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95280" y="189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Préambule du programme de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  <a:ea typeface="Arial Unicode MS"/>
              </a:rPr>
              <a:t>er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STI2D / ST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468360" y="1773360"/>
            <a:ext cx="83516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- la maîtrise de la langue française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- la pratique d’une langue vivante étrangè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- les compétences de base en mathématiques et la culture scientifique et technologique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- la maîtrise des techniques usuelles de l’information et de la communication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5- la culture humaniste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6- les compétences sociales et civ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7- l’autonomie et de l’initiative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25977-DC01-43AF-B010-F9C97DC1B2CD}" type="slidenum">
              <a:rPr b="0" lang="fr-FR" sz="28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826920" y="476280"/>
            <a:ext cx="7777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Les 7 compétences du so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7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830FF-F6C7-4C0C-91A3-A0CDCD00B114}" type="slidenum">
              <a:rPr b="0" lang="fr-FR" sz="28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755640" y="1413000"/>
            <a:ext cx="7777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Les 7 compétences du so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68360" y="270828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haque grande compétence du socle est conçue comme une combinaison de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naissance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fondamentales pour notre temps,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 capacités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à les mettre en oeuvre dans des situations variées, mais aussi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d’attitude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ndispensables tout au long de la vie…. 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95280" y="4046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Encart BO n°29 du 20 juillet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“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ocle commun de connaissances et de competenc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684360" y="549360"/>
            <a:ext cx="777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La démarche scientifiqu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es compétences nécessitent la maîtrise de capacités qui dépassent largement le cadre de l’activité scientifiqu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fr-FR" sz="24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faire preuve d’initiative, de ténacité et d’esprit criti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fr-FR" sz="2400" spc="-1" strike="noStrike" u="sng">
                <a:solidFill>
                  <a:srgbClr val="0033cc"/>
                </a:solidFill>
                <a:uFillTx/>
                <a:latin typeface="Times New Roman"/>
                <a:ea typeface="Arial Unicode MS"/>
              </a:rPr>
              <a:t>confronter ses représentations avec la réalité </a:t>
            </a:r>
            <a:r>
              <a:rPr b="0" lang="fr-FR" sz="2800" spc="-1" strike="noStrike">
                <a:solidFill>
                  <a:srgbClr val="0033cc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observer en faisant preuve de curiosité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……”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9113F-CD16-46E0-9628-B141B98349F2}" type="slidenum">
              <a:rPr b="0" lang="fr-FR" sz="28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50920" y="5229360"/>
            <a:ext cx="4249800" cy="1295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Capacités</a:t>
            </a:r>
            <a:r>
              <a:rPr b="0" lang="fr-FR" sz="2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de la compétence transversale 7 du socl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716360" y="5229360"/>
            <a:ext cx="4138560" cy="1295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 u="sng">
                <a:solidFill>
                  <a:srgbClr val="0033cc"/>
                </a:solidFill>
                <a:uFillTx/>
                <a:latin typeface="Times New Roman"/>
                <a:ea typeface="Arial Unicode MS"/>
              </a:rPr>
              <a:t>Capacité</a:t>
            </a:r>
            <a:r>
              <a:rPr b="0" lang="fr-FR" sz="2600" spc="-1" strike="noStrike">
                <a:solidFill>
                  <a:srgbClr val="0033cc"/>
                </a:solidFill>
                <a:latin typeface="Times New Roman"/>
                <a:ea typeface="Arial Unicode MS"/>
              </a:rPr>
              <a:t> de la compétence transversale 6 du socl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95280" y="189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Préambule du programme de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  <a:ea typeface="Arial Unicode MS"/>
              </a:rPr>
              <a:t>er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STI2D / ST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411280" y="3860640"/>
            <a:ext cx="4248360" cy="1224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ttitudes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e la compétence disciplinaire 3 du socl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39640" y="476280"/>
            <a:ext cx="8280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La démarche expériment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e plus, en devant présenter la démarche suivie et les résultats obtenus, l’élève est amené à pratiquer une activité de </a:t>
            </a:r>
            <a:r>
              <a:rPr b="0" lang="fr-FR" sz="2400" spc="-1" strike="noStrike" u="sng">
                <a:solidFill>
                  <a:srgbClr val="5d2884"/>
                </a:solidFill>
                <a:uFillTx/>
                <a:latin typeface="Times New Roman"/>
                <a:ea typeface="Arial Unicode MS"/>
              </a:rPr>
              <a:t>communic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usceptible de le faire progresser dans la </a:t>
            </a:r>
            <a:r>
              <a:rPr b="0" lang="fr-FR" sz="2400" spc="-1" strike="noStrike" u="sng">
                <a:solidFill>
                  <a:srgbClr val="5d2884"/>
                </a:solidFill>
                <a:uFillTx/>
                <a:latin typeface="Times New Roman"/>
                <a:ea typeface="Arial Unicode MS"/>
              </a:rPr>
              <a:t>maîtrise des compétences langagières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, </a:t>
            </a:r>
            <a:r>
              <a:rPr b="0" lang="fr-FR" sz="2400" spc="-1" strike="noStrike" u="sng">
                <a:solidFill>
                  <a:srgbClr val="5d2884"/>
                </a:solidFill>
                <a:uFillTx/>
                <a:latin typeface="Times New Roman"/>
                <a:ea typeface="Arial Unicode MS"/>
              </a:rPr>
              <a:t>orales et écrit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</a:t>
            </a:r>
            <a:r>
              <a:rPr b="0" lang="fr-FR" sz="2400" spc="-1" strike="noStrike" u="sng">
                <a:solidFill>
                  <a:srgbClr val="5d2884"/>
                </a:solidFill>
                <a:uFillTx/>
                <a:latin typeface="Times New Roman"/>
                <a:ea typeface="Arial Unicode MS"/>
              </a:rPr>
              <a:t>e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fr-FR" sz="2400" spc="-1" strike="noStrike" u="sng">
                <a:solidFill>
                  <a:srgbClr val="5d2884"/>
                </a:solidFill>
                <a:uFillTx/>
                <a:latin typeface="Times New Roman"/>
                <a:ea typeface="Arial Unicode MS"/>
              </a:rPr>
              <a:t>langue français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….. ”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F7DC6-9580-4EEA-A172-9E585D7D03F7}" type="slidenum">
              <a:rPr b="0" lang="fr-FR" sz="28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79280" y="0"/>
            <a:ext cx="88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Préambule du programme de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  <a:ea typeface="Arial Unicode MS"/>
              </a:rPr>
              <a:t>er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STI2D / ST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411280" y="4437000"/>
            <a:ext cx="4176720" cy="1440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 u="sng">
                <a:solidFill>
                  <a:srgbClr val="a20fb1"/>
                </a:solidFill>
                <a:uFillTx/>
                <a:latin typeface="Times New Roman"/>
                <a:ea typeface="Arial Unicode MS"/>
              </a:rPr>
              <a:t>Capacité</a:t>
            </a:r>
            <a:r>
              <a:rPr b="0" lang="fr-FR" sz="2800" spc="-1" strike="noStrike">
                <a:solidFill>
                  <a:srgbClr val="a20fb1"/>
                </a:solidFill>
                <a:latin typeface="Times New Roman"/>
                <a:ea typeface="Arial Unicode MS"/>
              </a:rPr>
              <a:t> de la compétence transversale 1 du so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55640" y="333360"/>
            <a:ext cx="7993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L’usage adapté des T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utre la recherche documentaire, le recueil des informations, la connaissance de l’actualité scientifique, qui requièrent notamment </a:t>
            </a:r>
            <a:r>
              <a:rPr b="0" lang="fr-FR" sz="2400" spc="-1" strike="noStrike" u="sng">
                <a:solidFill>
                  <a:srgbClr val="ff0000"/>
                </a:solidFill>
                <a:uFillTx/>
                <a:latin typeface="Times New Roman"/>
              </a:rPr>
              <a:t>l’exploration pertinente des ressources d’Interne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l’activité expérimentale doit s’appuyer avec profit sur </a:t>
            </a:r>
            <a:r>
              <a:rPr b="0" lang="fr-FR" sz="2400" spc="-1" strike="noStrike" u="sng">
                <a:solidFill>
                  <a:srgbClr val="ff0000"/>
                </a:solidFill>
                <a:uFillTx/>
                <a:latin typeface="Times New Roman"/>
              </a:rPr>
              <a:t>l’expérimentation assistée par ordinat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 u="sng">
                <a:solidFill>
                  <a:srgbClr val="ff0000"/>
                </a:solidFill>
                <a:uFillTx/>
                <a:latin typeface="Times New Roman"/>
              </a:rPr>
              <a:t>la saisie et le traitement des mesur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 u="sng">
                <a:solidFill>
                  <a:srgbClr val="ff0000"/>
                </a:solidFill>
                <a:uFillTx/>
                <a:latin typeface="Times New Roman"/>
              </a:rPr>
              <a:t>L’automatisation de l’acquisition et du traitement des données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 u="sng">
                <a:solidFill>
                  <a:srgbClr val="ff0000"/>
                </a:solidFill>
                <a:uFillTx/>
                <a:latin typeface="Times New Roman"/>
              </a:rPr>
              <a:t>La simulation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t l’une des modalités de la démarche scientifique susceptible d’être mobilisée par le professeur ou par les élèves eux-mêmes.”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1FD5C-A139-420E-B958-A1892C7FA11B}" type="slidenum">
              <a:rPr b="0" lang="fr-FR" sz="28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50920" y="5157720"/>
            <a:ext cx="4357440" cy="1295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Capacités</a:t>
            </a:r>
            <a:r>
              <a:rPr b="0" lang="fr-FR" sz="2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de la compétence transversale 4 du socl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716360" y="5157720"/>
            <a:ext cx="4249800" cy="1295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Attitudes </a:t>
            </a:r>
            <a:r>
              <a:rPr b="0" lang="fr-FR" sz="2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de la compétence transversale 4 du socl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24000" y="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1112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Préambule du programme de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  <a:ea typeface="Arial Unicode MS"/>
              </a:rPr>
              <a:t>er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STI2D / ST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spection Physique Chimie</dc:creator>
  <dc:description/>
  <dc:language>en-US</dc:language>
  <cp:lastModifiedBy>Tessier Florent</cp:lastModifiedBy>
  <dcterms:modified xsi:type="dcterms:W3CDTF">2011-07-01T07:58:52Z</dcterms:modified>
  <cp:revision>58</cp:revision>
  <dc:subject/>
  <dc:title>Préambule du programme 1STI2D et 1STL</dc:title>
</cp:coreProperties>
</file>