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achine%20%C3%A0%20%C3%A9crire.wav" ContentType="audio/x-wav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DCA-5140-4A1E-B3A4-75B0F0FC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BA2-CCD8-4A9E-8891-F7E93DAF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419-8349-48ED-ACBF-C5433EEF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967-6394-44F3-BDB6-4693E5C2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D50-9062-4467-B60E-7CEBD9BF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18F-9F40-438C-BA5D-6C0CFD0A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5F8-71BB-45A3-BE2F-93184957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F54-9531-4D82-B91C-69C140CF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68A-FF7D-4D13-888C-849CD364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30B-7ECD-4CCE-AF46-CCF6900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C22-F09E-4E88-8C58-0C093A78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4FA-7675-4804-80F4-5998E06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DC7F-4FA1-474C-ADC1-666319A07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Machine%20&#224;%20&#233;crir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Machine%20&#224;%20&#233;crir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achine%20&#224;%20&#233;crir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Machine%20&#224;%20&#233;crir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achine%20&#224;%20&#233;crir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d60093"/>
                </a:solidFill>
                <a:uFillTx/>
                <a:latin typeface="Times New Roman"/>
              </a:rPr>
              <a:t>CALCUL MENT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743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it  de décimaux rel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0720" y="354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9810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ff33"/>
                </a:solidFill>
                <a:latin typeface="Times New Roman"/>
              </a:rPr>
              <a:t>-0,5 X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8920" y="4876920"/>
            <a:ext cx="44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ffff"/>
                </a:solidFill>
                <a:latin typeface="Times New Roman"/>
              </a:rPr>
              <a:t>-4 X (-0,3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8200" y="304920"/>
            <a:ext cx="2416320" cy="1063440"/>
            <a:chOff x="268200" y="304920"/>
            <a:chExt cx="2416320" cy="1063440"/>
          </a:xfrm>
        </p:grpSpPr>
        <p:sp>
          <p:nvSpPr>
            <p:cNvPr id="121" name=""/>
            <p:cNvSpPr/>
            <p:nvPr/>
          </p:nvSpPr>
          <p:spPr>
            <a:xfrm>
              <a:off x="637200" y="419040"/>
              <a:ext cx="173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2040" y="304920"/>
              <a:ext cx="2281320" cy="1063440"/>
            </a:xfrm>
            <a:custGeom>
              <a:avLst/>
              <a:gdLst>
                <a:gd name="textAreaLeft" fmla="*/ 84240 w 2281320"/>
                <a:gd name="textAreaRight" fmla="*/ 2197080 w 2281320"/>
                <a:gd name="textAreaTop" fmla="*/ 39240 h 1063440"/>
                <a:gd name="textAreaBottom" fmla="*/ 849240 h 10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8200" y="41580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ff33"/>
                </a:solidFill>
                <a:latin typeface="Times New Roman"/>
              </a:rPr>
              <a:t>8 X (-0,25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560" y="5181480"/>
            <a:ext cx="31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ffff"/>
                </a:solidFill>
                <a:latin typeface="Times New Roman"/>
              </a:rPr>
              <a:t>-0,5 X 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68200" y="228600"/>
            <a:ext cx="2416320" cy="1063800"/>
            <a:chOff x="268200" y="228600"/>
            <a:chExt cx="2416320" cy="1063800"/>
          </a:xfrm>
        </p:grpSpPr>
        <p:sp>
          <p:nvSpPr>
            <p:cNvPr id="130" name=""/>
            <p:cNvSpPr/>
            <p:nvPr/>
          </p:nvSpPr>
          <p:spPr>
            <a:xfrm>
              <a:off x="637560" y="343080"/>
              <a:ext cx="173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00" y="228600"/>
              <a:ext cx="2280960" cy="1063800"/>
            </a:xfrm>
            <a:custGeom>
              <a:avLst/>
              <a:gdLst>
                <a:gd name="textAreaLeft" fmla="*/ 84240 w 2280960"/>
                <a:gd name="textAreaRight" fmla="*/ 2196720 w 2280960"/>
                <a:gd name="textAreaTop" fmla="*/ 39240 h 1063800"/>
                <a:gd name="textAreaBottom" fmla="*/ 84960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200" y="33984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9810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ff33"/>
                </a:solidFill>
                <a:latin typeface="Times New Roman"/>
              </a:rPr>
              <a:t>8X (-0,25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2040" y="510552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00ffff"/>
                </a:solidFill>
                <a:latin typeface="Times New Roman"/>
              </a:rPr>
              <a:t>(-0,5) X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8200" y="117360"/>
            <a:ext cx="2416320" cy="1175040"/>
            <a:chOff x="268200" y="117360"/>
            <a:chExt cx="2416320" cy="1175040"/>
          </a:xfrm>
        </p:grpSpPr>
        <p:sp>
          <p:nvSpPr>
            <p:cNvPr id="138" name=""/>
            <p:cNvSpPr/>
            <p:nvPr/>
          </p:nvSpPr>
          <p:spPr>
            <a:xfrm>
              <a:off x="517680" y="117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68200" y="228600"/>
              <a:ext cx="2416320" cy="1063800"/>
              <a:chOff x="268200" y="228600"/>
              <a:chExt cx="2416320" cy="1063800"/>
            </a:xfrm>
          </p:grpSpPr>
          <p:sp>
            <p:nvSpPr>
              <p:cNvPr id="140" name=""/>
              <p:cNvSpPr/>
              <p:nvPr/>
            </p:nvSpPr>
            <p:spPr>
              <a:xfrm>
                <a:off x="637560" y="343080"/>
                <a:ext cx="1730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calcu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2400" y="228600"/>
                <a:ext cx="2280960" cy="1063800"/>
              </a:xfrm>
              <a:custGeom>
                <a:avLst/>
                <a:gdLst>
                  <a:gd name="textAreaLeft" fmla="*/ 84240 w 2280960"/>
                  <a:gd name="textAreaRight" fmla="*/ 2196720 w 2280960"/>
                  <a:gd name="textAreaTop" fmla="*/ 39240 h 1063800"/>
                  <a:gd name="textAreaBottom" fmla="*/ 849600 h 106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5156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200" y="339840"/>
                <a:ext cx="24163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alcul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2666880"/>
            <a:ext cx="5334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99"/>
                </a:solidFill>
                <a:latin typeface="Times New Roman"/>
              </a:rPr>
              <a:t>Poser les sty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RESUL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36760" y="1368360"/>
          <a:ext cx="6719760" cy="48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368360"/>
                    <a:ext cx="671976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17640" y="1611360"/>
          <a:ext cx="6546960" cy="44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611360"/>
                    <a:ext cx="65469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62680" y="53352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éparez-v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4419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COTE DRO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TE GAU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28600"/>
            <a:ext cx="2281320" cy="1063800"/>
            <a:chOff x="228600" y="228600"/>
            <a:chExt cx="2281320" cy="1063800"/>
          </a:xfrm>
        </p:grpSpPr>
        <p:sp>
          <p:nvSpPr>
            <p:cNvPr id="50" name=""/>
            <p:cNvSpPr/>
            <p:nvPr/>
          </p:nvSpPr>
          <p:spPr>
            <a:xfrm>
              <a:off x="228600" y="228600"/>
              <a:ext cx="2281320" cy="1063800"/>
            </a:xfrm>
            <a:custGeom>
              <a:avLst/>
              <a:gdLst>
                <a:gd name="textAreaLeft" fmla="*/ 84240 w 2281320"/>
                <a:gd name="textAreaRight" fmla="*/ 2197080 w 2281320"/>
                <a:gd name="textAreaTop" fmla="*/ 39240 h 1063800"/>
                <a:gd name="textAreaBottom" fmla="*/ 84960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040" y="339840"/>
              <a:ext cx="21877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r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28600" y="17524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-5 X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8560" y="457200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00ffff"/>
                </a:solidFill>
                <a:latin typeface="Times New Roman"/>
              </a:rPr>
              <a:t>-7 X 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228600"/>
            <a:ext cx="2280960" cy="1063800"/>
            <a:chOff x="304920" y="228600"/>
            <a:chExt cx="2280960" cy="1063800"/>
          </a:xfrm>
        </p:grpSpPr>
        <p:sp>
          <p:nvSpPr>
            <p:cNvPr id="58" name=""/>
            <p:cNvSpPr/>
            <p:nvPr/>
          </p:nvSpPr>
          <p:spPr>
            <a:xfrm>
              <a:off x="534960" y="343080"/>
              <a:ext cx="154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r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228600"/>
              <a:ext cx="2280960" cy="1063800"/>
            </a:xfrm>
            <a:custGeom>
              <a:avLst/>
              <a:gdLst>
                <a:gd name="textAreaLeft" fmla="*/ 84240 w 2280960"/>
                <a:gd name="textAreaRight" fmla="*/ 2196720 w 2280960"/>
                <a:gd name="textAreaTop" fmla="*/ 39240 h 1063800"/>
                <a:gd name="textAreaBottom" fmla="*/ 849600 h 106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3360" y="339840"/>
              <a:ext cx="21877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r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57200" y="21337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-5 X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029200"/>
            <a:ext cx="54864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38560" y="472428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00ffff"/>
                </a:solidFill>
                <a:latin typeface="Times New Roman"/>
              </a:rPr>
              <a:t>-7 X 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480" y="53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81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2 X (-1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4480" y="480060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00ffff"/>
                </a:solidFill>
                <a:latin typeface="Times New Roman"/>
              </a:rPr>
              <a:t>-6 X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8200" y="228600"/>
            <a:ext cx="2416320" cy="1063440"/>
            <a:chOff x="268200" y="228600"/>
            <a:chExt cx="2416320" cy="1063440"/>
          </a:xfrm>
        </p:grpSpPr>
        <p:sp>
          <p:nvSpPr>
            <p:cNvPr id="71" name=""/>
            <p:cNvSpPr/>
            <p:nvPr/>
          </p:nvSpPr>
          <p:spPr>
            <a:xfrm>
              <a:off x="637200" y="342720"/>
              <a:ext cx="173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2040" y="228600"/>
              <a:ext cx="2281320" cy="1063440"/>
            </a:xfrm>
            <a:custGeom>
              <a:avLst/>
              <a:gdLst>
                <a:gd name="textAreaLeft" fmla="*/ 84240 w 2281320"/>
                <a:gd name="textAreaRight" fmla="*/ 2197080 w 2281320"/>
                <a:gd name="textAreaTop" fmla="*/ 39240 h 1063440"/>
                <a:gd name="textAreaBottom" fmla="*/ 849240 h 10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8200" y="33948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0480" y="533520"/>
            <a:ext cx="2416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e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981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2 X (-11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70640" y="4876920"/>
            <a:ext cx="316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600" spc="-1" strike="noStrike">
                <a:solidFill>
                  <a:srgbClr val="00ffff"/>
                </a:solidFill>
                <a:latin typeface="Times New Roman"/>
              </a:rPr>
              <a:t>-6 X 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5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8200" y="228600"/>
            <a:ext cx="2416320" cy="1063440"/>
            <a:chOff x="268200" y="228600"/>
            <a:chExt cx="2416320" cy="1063440"/>
          </a:xfrm>
        </p:grpSpPr>
        <p:sp>
          <p:nvSpPr>
            <p:cNvPr id="81" name=""/>
            <p:cNvSpPr/>
            <p:nvPr/>
          </p:nvSpPr>
          <p:spPr>
            <a:xfrm>
              <a:off x="637200" y="342720"/>
              <a:ext cx="173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040" y="228600"/>
              <a:ext cx="2281320" cy="1063440"/>
            </a:xfrm>
            <a:custGeom>
              <a:avLst/>
              <a:gdLst>
                <a:gd name="textAreaLeft" fmla="*/ 84240 w 2281320"/>
                <a:gd name="textAreaRight" fmla="*/ 2197080 w 2281320"/>
                <a:gd name="textAreaTop" fmla="*/ 39240 h 1063440"/>
                <a:gd name="textAreaBottom" fmla="*/ 849240 h 10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200" y="33948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9810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-8 X (-6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48006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800" spc="-1" strike="noStrike">
                <a:solidFill>
                  <a:srgbClr val="00ffff"/>
                </a:solidFill>
                <a:latin typeface="Times New Roman"/>
              </a:rPr>
              <a:t>-9 X (-5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44520" y="228600"/>
            <a:ext cx="2492280" cy="1174680"/>
            <a:chOff x="344520" y="228600"/>
            <a:chExt cx="2492280" cy="1174680"/>
          </a:xfrm>
        </p:grpSpPr>
        <p:sp>
          <p:nvSpPr>
            <p:cNvPr id="89" name=""/>
            <p:cNvSpPr/>
            <p:nvPr/>
          </p:nvSpPr>
          <p:spPr>
            <a:xfrm>
              <a:off x="420480" y="49212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040" y="228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44520" y="339480"/>
              <a:ext cx="2416320" cy="1063800"/>
              <a:chOff x="344520" y="339480"/>
              <a:chExt cx="2416320" cy="1063800"/>
            </a:xfrm>
          </p:grpSpPr>
          <p:sp>
            <p:nvSpPr>
              <p:cNvPr id="92" name=""/>
              <p:cNvSpPr/>
              <p:nvPr/>
            </p:nvSpPr>
            <p:spPr>
              <a:xfrm>
                <a:off x="713520" y="453960"/>
                <a:ext cx="1730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calcu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8360" y="339480"/>
                <a:ext cx="2281320" cy="1063800"/>
              </a:xfrm>
              <a:custGeom>
                <a:avLst/>
                <a:gdLst>
                  <a:gd name="textAreaLeft" fmla="*/ 84240 w 2281320"/>
                  <a:gd name="textAreaRight" fmla="*/ 2197080 w 2281320"/>
                  <a:gd name="textAreaTop" fmla="*/ 39240 h 1063800"/>
                  <a:gd name="textAreaBottom" fmla="*/ 849600 h 106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5156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4520" y="450720"/>
                <a:ext cx="24163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alcul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Ecriv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9810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66ff33"/>
                </a:solidFill>
                <a:latin typeface="Times New Roman"/>
              </a:rPr>
              <a:t>-8 X (-6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18800" y="4648320"/>
            <a:ext cx="402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800" spc="-1" strike="noStrike">
                <a:solidFill>
                  <a:srgbClr val="00ffff"/>
                </a:solidFill>
                <a:latin typeface="Times New Roman"/>
              </a:rPr>
              <a:t>-9 X (-5)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44520" y="228600"/>
            <a:ext cx="2492280" cy="1174680"/>
            <a:chOff x="344520" y="228600"/>
            <a:chExt cx="2492280" cy="1174680"/>
          </a:xfrm>
        </p:grpSpPr>
        <p:sp>
          <p:nvSpPr>
            <p:cNvPr id="100" name=""/>
            <p:cNvSpPr/>
            <p:nvPr/>
          </p:nvSpPr>
          <p:spPr>
            <a:xfrm>
              <a:off x="420480" y="49212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040" y="228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44520" y="339480"/>
              <a:ext cx="2416320" cy="1063800"/>
              <a:chOff x="344520" y="339480"/>
              <a:chExt cx="2416320" cy="1063800"/>
            </a:xfrm>
          </p:grpSpPr>
          <p:sp>
            <p:nvSpPr>
              <p:cNvPr id="103" name=""/>
              <p:cNvSpPr/>
              <p:nvPr/>
            </p:nvSpPr>
            <p:spPr>
              <a:xfrm>
                <a:off x="713520" y="453960"/>
                <a:ext cx="17305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calcu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8360" y="339480"/>
                <a:ext cx="2281320" cy="1063800"/>
              </a:xfrm>
              <a:custGeom>
                <a:avLst/>
                <a:gdLst>
                  <a:gd name="textAreaLeft" fmla="*/ 84240 w 2281320"/>
                  <a:gd name="textAreaRight" fmla="*/ 2197080 w 2281320"/>
                  <a:gd name="textAreaTop" fmla="*/ 39240 h 1063800"/>
                  <a:gd name="textAreaBottom" fmla="*/ 849600 h 106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90" y="0"/>
                    </a:moveTo>
                    <a:arcTo wR="3590" hR="3590" stAng="16200000" swAng="-5400000"/>
                    <a:lnTo>
                      <a:pt x="0" y="14460"/>
                    </a:lnTo>
                    <a:arcTo wR="3590" hR="3590" stAng="10800000" swAng="-5400000"/>
                    <a:lnTo>
                      <a:pt x="5156" y="21600"/>
                    </a:lnTo>
                    <a:lnTo>
                      <a:pt x="5420" y="18050"/>
                    </a:lnTo>
                    <a:lnTo>
                      <a:pt x="18010" y="18050"/>
                    </a:lnTo>
                    <a:arcTo wR="3590" hR="3590" stAng="5400000" swAng="-5400000"/>
                    <a:lnTo>
                      <a:pt x="21600" y="3590"/>
                    </a:lnTo>
                    <a:arcTo wR="3590" hR="3590" stAng="0" swAng="-5400000"/>
                    <a:close/>
                  </a:path>
                </a:pathLst>
              </a:cu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4520" y="450720"/>
                <a:ext cx="24163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Times New Roman"/>
                  </a:rPr>
                  <a:t>em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calcul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480" y="30456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66"/>
                </a:solidFill>
                <a:latin typeface="Times New Roman"/>
              </a:rPr>
              <a:t>Réfléchissez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9810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66ff33"/>
                </a:solidFill>
                <a:latin typeface="Times New Roman"/>
              </a:rPr>
              <a:t>-0,5 X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502920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8440" y="4876920"/>
            <a:ext cx="469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ffff"/>
                </a:solidFill>
                <a:latin typeface="Times New Roman"/>
              </a:rPr>
              <a:t>-4 X (-0,3)</a:t>
            </a:r>
            <a:r>
              <a:rPr b="0" lang="fr-FR" sz="8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8200" y="304920"/>
            <a:ext cx="2416320" cy="1063440"/>
            <a:chOff x="268200" y="304920"/>
            <a:chExt cx="2416320" cy="1063440"/>
          </a:xfrm>
        </p:grpSpPr>
        <p:sp>
          <p:nvSpPr>
            <p:cNvPr id="112" name=""/>
            <p:cNvSpPr/>
            <p:nvPr/>
          </p:nvSpPr>
          <p:spPr>
            <a:xfrm>
              <a:off x="637200" y="419040"/>
              <a:ext cx="173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calcu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2040" y="304920"/>
              <a:ext cx="2281320" cy="1063440"/>
            </a:xfrm>
            <a:custGeom>
              <a:avLst/>
              <a:gdLst>
                <a:gd name="textAreaLeft" fmla="*/ 84240 w 2281320"/>
                <a:gd name="textAreaRight" fmla="*/ 2197080 w 2281320"/>
                <a:gd name="textAreaTop" fmla="*/ 39240 h 1063440"/>
                <a:gd name="textAreaBottom" fmla="*/ 849240 h 106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5156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200" y="415800"/>
              <a:ext cx="2416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em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alcu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14:54:12Z</dcterms:created>
  <dc:creator>fanfan</dc:creator>
  <dc:description/>
  <dc:language>en-US</dc:language>
  <cp:lastModifiedBy>Bouron</cp:lastModifiedBy>
  <dcterms:modified xsi:type="dcterms:W3CDTF">2004-07-11T08:20:42Z</dcterms:modified>
  <cp:revision>2</cp:revision>
  <dc:subject/>
  <dc:title>Présentation PowerPoint</dc:title>
</cp:coreProperties>
</file>