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91A-8D87-4299-B97E-2AA153C1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B83-EFA1-4B05-8815-C9A2B62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B46-099F-4D76-ADE2-E380E64B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1A8-B52C-4F6E-ADC7-5077EF1F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85A-6409-4B76-83D1-F9688D6B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2C7-4AE7-4F08-9ED5-4774450F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9EC-0C4A-4348-9F64-8502DDF9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734-6593-467F-9809-26C6C0D3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542-9C14-43E8-B927-7A1B47CC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A38-9A54-4151-9AA1-E189866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B07-56E2-47E6-A596-0C38D364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DB2-EBA3-498A-BB95-FFA17225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ACE2-778B-4610-9B71-1AB70DF4E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5181120"/>
            <a:ext cx="4419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éparez – v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002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N HAUT : Sujet (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10552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19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153280" y="1219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495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04812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N BAS    : Sujet (B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819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14300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« 2(6 - x) = 12 - 2x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égalité vraie pour x = 4 » 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VRAI ou FAUX.     Justifi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5318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2438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40384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 6x – 4 = 10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égalité vraie pour x = 2 »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RAI ou FAUX.     Justifi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14300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 8x - 7 = 30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égalité vraie pour x = 5 »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RAI ou FAUX.     Justifi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318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2438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40384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 4(6 - x) = 24 - 4x   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égalité vraie pour x = 3 »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RAI ou FAUX.     Justifi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219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219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53280" y="12193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495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Posez  les  stylo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21337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 44,3 - 3,4 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2057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463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1676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6483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 29 + 41 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9810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 39 + 71 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889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463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16765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4708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77,3 - 2,1  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173664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PN = 90° et PM = P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NP est un triangle …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47847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2133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4403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 = T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U est un triangle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057400" y="152352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15238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4479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(0,8) et B(-30)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AB 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9370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346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409896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(-128) et B(-3)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AB 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4479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donne F = 0,8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eur de F pour x = 2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4648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828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42670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donne G = 0,7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eur de G pour x = 2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4403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donne F = 1,3 + 25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eur de F pour k = 3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1889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150804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donne G = 2,8 + 2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eur de G pour p = 75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2057400"/>
                <a:ext cx="4800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4788000"/>
                <a:ext cx="4944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858000" y="45561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9051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5720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80880"/>
            <a:ext cx="144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GO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28800" y="2009880"/>
                <a:ext cx="6477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52480" y="4724280"/>
                <a:ext cx="65534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6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8305920" y="44798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2:53:51Z</dcterms:created>
  <dc:creator>FABRES Nicolas</dc:creator>
  <dc:description/>
  <dc:language>en-US</dc:language>
  <cp:lastModifiedBy>FABRES Nicolas</cp:lastModifiedBy>
  <dcterms:modified xsi:type="dcterms:W3CDTF">2004-04-13T12:34:23Z</dcterms:modified>
  <cp:revision>66</cp:revision>
  <dc:subject/>
  <dc:title>Diaporama</dc:title>
</cp:coreProperties>
</file>