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DBA-69D6-4E56-9A37-A889EA02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E48-5FEB-40FB-9169-444AAEC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287-FF08-483B-8F46-406891B3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832-CBEB-4172-A874-FA43E186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0267-9216-40B3-8597-7B9B768B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36CB-6B4E-4A12-82FD-C0C58C0E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C2F1-0BF6-4975-963F-75227DD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6303-8C66-485B-8268-8E153C45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1EF3-5092-4CF8-B08F-AA0AE149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9BC1-49B8-4FD1-8187-CAFFDC56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324D-4DE5-41D6-9B0B-6070756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2D4-F7FE-4733-9ACB-EFEAD986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A703-0930-4FFA-B37D-7418AFB2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27DE-CC7C-4AC4-9C0D-10A332D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8C4F-9301-4594-ADCE-B85E6062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F9FC-203E-41DF-BCD0-D7830635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B390-623F-46EA-8148-28CAA696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855-72C1-4922-BA28-5ECE2DE1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AD3-18B1-4160-BE9C-AFAB0F0E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5C8-5DC5-4E7F-AABD-EDEFD88B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843-D8C2-4B4A-BAD4-940AFE9F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0FC-8F7F-4CBB-B0D8-1E0AB97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24E-EDC7-4F9E-8BCB-1913D56E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F44-F53E-478D-B695-434FE336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E852-A555-470A-AF76-8DEB53E2D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62A4-F3BC-48A3-82F8-5624CFEA4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362320"/>
            <a:ext cx="6095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ea00a"/>
                </a:solidFill>
                <a:uFillTx/>
                <a:latin typeface="Arial"/>
              </a:rPr>
              <a:t>Préparez – vous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510552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cover dir="d"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3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371600"/>
            <a:ext cx="66294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Ecrire sans parenthès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(-5 –7) – (-8 + 9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= - 5 – 7 + 8 - 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4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295280"/>
            <a:ext cx="7543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On additionne la longueur des trois côté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Périmètre = 3,2 + 5,3 +1,2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= 9,7 d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5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971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648320" y="2057400"/>
            <a:ext cx="3809520" cy="4239000"/>
            <a:chOff x="4648320" y="2057400"/>
            <a:chExt cx="3809520" cy="423900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31228" t="4033" r="21163" b="11633"/>
            <a:stretch/>
          </p:blipFill>
          <p:spPr>
            <a:xfrm>
              <a:off x="4800600" y="2057400"/>
              <a:ext cx="348732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648320" y="4191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48360" y="5715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8680" y="297180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160" y="35816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57800" y="502920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 = 7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219320" y="2057400"/>
            <a:ext cx="3657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RS) et (NO) sont parallè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RS = 3,5 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11430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peut démontrer qu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1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8195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2 – 5 - 6 =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cover dir="d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2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28195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 4 + 5 – 7 =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over dir="d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3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371600"/>
            <a:ext cx="66294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Ecrire sans parenthèse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(-5 –7) – (-8 + 9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cover dir="d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4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143000"/>
            <a:ext cx="77724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Périmètre du triangl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57400" y="3581280"/>
            <a:ext cx="3505320" cy="2745720"/>
            <a:chOff x="2057400" y="3581280"/>
            <a:chExt cx="3505320" cy="2745720"/>
          </a:xfrm>
        </p:grpSpPr>
        <p:sp>
          <p:nvSpPr>
            <p:cNvPr id="104" name=""/>
            <p:cNvSpPr/>
            <p:nvPr/>
          </p:nvSpPr>
          <p:spPr>
            <a:xfrm>
              <a:off x="2819520" y="3581280"/>
              <a:ext cx="1828800" cy="2286000"/>
            </a:xfrm>
            <a:prstGeom prst="triangle">
              <a:avLst>
                <a:gd name="adj" fmla="val 31250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720" y="4495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5,3 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6720" y="5867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1,2 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7400" y="4419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3,2 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30000">
    <p:cover dir="d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5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99072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 peut-on démontrer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2057400"/>
            <a:ext cx="7391520" cy="4391280"/>
            <a:chOff x="1143000" y="2057400"/>
            <a:chExt cx="7391520" cy="43912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31228" t="4033" r="21163" b="11633"/>
            <a:stretch/>
          </p:blipFill>
          <p:spPr>
            <a:xfrm>
              <a:off x="4876920" y="2209680"/>
              <a:ext cx="348768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934320" y="2057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343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24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1240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7480" y="3733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2971800"/>
              <a:ext cx="304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3000" y="2286000"/>
              <a:ext cx="3352680" cy="35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 milieu de [MN]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 milieu de [MO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N = 6 c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O = 8 c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 = 7 c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30000">
    <p:cover dir="d"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ea00a"/>
                </a:solidFill>
                <a:latin typeface="Arial"/>
              </a:rPr>
              <a:t>Vous allez </a:t>
            </a:r>
            <a:br>
              <a:rPr sz="6000"/>
            </a:br>
            <a:r>
              <a:rPr b="0" lang="en-US" sz="6000" spc="-1" strike="noStrike">
                <a:solidFill>
                  <a:srgbClr val="0ea00a"/>
                </a:solidFill>
                <a:latin typeface="Arial"/>
              </a:rPr>
              <a:t>vérifier vos résultats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1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2819520"/>
            <a:ext cx="6629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297180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2 – 5 - 6 = - 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QUESTION 2)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91440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69696"/>
                </a:solidFill>
                <a:latin typeface="Arial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- 4 + 5 – 7 = - 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2:53:51Z</dcterms:created>
  <dc:creator>FABRES Nicolas</dc:creator>
  <dc:description/>
  <dc:language>en-US</dc:language>
  <cp:lastModifiedBy>Martine Pinson</cp:lastModifiedBy>
  <dcterms:modified xsi:type="dcterms:W3CDTF">2006-11-07T09:51:28Z</dcterms:modified>
  <cp:revision>97</cp:revision>
  <dc:subject/>
  <dc:title>Diaporama</dc:title>
</cp:coreProperties>
</file>