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23352-907A-4E96-BA24-055AB2D6C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19220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0A227-87F9-451F-B03E-A9549E2D6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352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4ABAD-D7A4-46F7-A987-9A16AC5F6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280" y="19807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1360" y="19807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1922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280" y="41922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1360" y="41922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B2306-2116-4D51-86CE-88B4B6DDA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580D1-55FF-4A39-AA2E-DA9FA4DB5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81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6996C-4FDD-4BD8-A44A-DD3A7CC72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7BA6F-1A7A-4BA7-B67B-3433A7490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802CE-503F-4F09-ADA2-5DBD3E224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E415B-83D3-4D10-B995-C3D7587C5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25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61A9C-80F1-4F30-A780-8AC3AB2A4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36D61-DA87-448D-A380-8F67FD283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81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9E590-F4E5-4306-947E-93201514D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352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9D5FA-F95F-4A10-96A8-E3657CEC8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73B93-64C2-4933-909A-5B76B8EED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19220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8E07D-0281-4B65-A495-CC6795D6B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352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88A50-C516-475E-9CBE-D0ABE60B9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280" y="19807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1360" y="19807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1922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280" y="41922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1360" y="41922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8C369-1A87-4971-93A0-C57717D42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66723-FA9E-4CDA-BBE6-AECE1C39E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7F633-E095-4AB9-A7EB-F9DDFFF3D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CB3D0-4F7C-4553-9BBD-3EBADACCC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25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D3581-5B29-4589-B58E-06AAB124E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61D27-9A8F-4B08-9C7F-57004A60A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352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65BCD-896C-4E54-A005-4205DAFF0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53E43-C6C4-4BD6-982E-29587C16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44D4346-0C95-4C9F-9CFB-C4E76A957322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8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AE1CA9D-B106-4577-A508-529128D77450}" type="slidenum">
              <a:rPr b="0" lang="fr-FR" sz="1200" spc="-1" strike="noStrike">
                <a:solidFill>
                  <a:srgbClr val="000000"/>
                </a:solidFill>
                <a:latin typeface="Arial Black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440" y="1828800"/>
            <a:ext cx="6018120" cy="22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Comic Sans MS"/>
              </a:rPr>
              <a:t>Descripción física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Arial"/>
              </a:rPr>
              <a:t>Te toca a t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dur="indefinite" nodeType="afterEffect" fill="hold" presetClass="path" presetID="1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52 0 L 0.089 -0.04933 L 0.125 0 L 0.177 0 L 0.177 0.06933 L 0.213 0.11867 L 0.177 0.16667 L 0.177 0.236 L 0.125 0.236 L 0.089 0.284 L 0.052 0.236 L 0 0.236 L 0 0.16667 L -0.037 0.11867 L 0 0.06933 L 0 0 Z">
                                      <p:cBhvr>
                                        <p:cTn id="14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9360">
            <a:solidFill>
              <a:srgbClr val="0099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fr-FR" sz="4800" spc="-1" strike="noStrike">
                <a:solidFill>
                  <a:srgbClr val="000000"/>
                </a:solidFill>
                <a:latin typeface="Comic Sans MS"/>
              </a:rPr>
              <a:t>Adiós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39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627280" y="2060640"/>
            <a:ext cx="3809880" cy="41623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5867280" y="1628640"/>
            <a:ext cx="3025800" cy="36720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Arial"/>
              </a:rPr>
              <a:t>y hasta la próxima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dur="indefinite" fill="hold">
                      <p:stCondLst>
                        <p:cond delay="0"/>
                      </p:stCondLst>
                      <p:childTnLst>
                        <p:par>
                          <p:cTn id="3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dur="indefinite" fill="hold">
                      <p:stCondLst>
                        <p:cond delay="indefinite"/>
                      </p:stCondLst>
                      <p:childTnLst>
                        <p:par>
                          <p:cTn id="3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7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dur="indefinite" fill="hold">
                      <p:stCondLst>
                        <p:cond delay="indefinite"/>
                      </p:stCondLst>
                      <p:childTnLst>
                        <p:par>
                          <p:cTn id="3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dur="indefinite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dur="indefinite" fill="hold">
                      <p:stCondLst>
                        <p:cond delay="indefinite"/>
                      </p:stCondLst>
                      <p:childTnLst>
                        <p:par>
                          <p:cTn id="3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2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omic Sans MS"/>
              </a:rPr>
              <a:t>Bienvenido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4000320"/>
            <a:ext cx="8229600" cy="186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ecuerda las fras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iene el pelo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iene los ojo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438360" y="2133720"/>
            <a:ext cx="2267280" cy="15620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dur="indefinite" fill="hold">
                      <p:stCondLst>
                        <p:cond delay="0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3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dur="indefinite" fill="hold">
                            <p:stCondLst>
                              <p:cond delay="7000"/>
                            </p:stCondLst>
                            <p:childTnLst>
                              <p:par>
                                <p:cTn id="4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3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3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¿Cómo es Pila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ilar tiene el pelo negro y riz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iene los ojos negr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iene la piel moren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46120" y="1981080"/>
            <a:ext cx="3859200" cy="3886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dur="indefinite" fill="hold">
                      <p:stCondLst>
                        <p:cond delay="0"/>
                      </p:stCondLst>
                      <p:childTnLst>
                        <p:par>
                          <p:cTn id="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768" fill="hold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768" fill="hold"/>
                                        <p:tgtEl>
                                          <p:spTgt spid="1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" dur="768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" dur="768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dur="indefinite" fill="hold">
                      <p:stCondLst>
                        <p:cond delay="indefinite"/>
                      </p:stCondLst>
                      <p:childTnLst>
                        <p:par>
                          <p:cTn id="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3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7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3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dur="indefinite" fill="hold">
                            <p:stCondLst>
                              <p:cond delay="6000"/>
                            </p:stCondLst>
                            <p:childTnLst>
                              <p:par>
                                <p:cTn id="81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3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¿Cómo es Lol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ola es rub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iene el pelo largo y li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iene los ojos azu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iene la piel blanca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042920" y="2205000"/>
            <a:ext cx="2803680" cy="3911760"/>
            <a:chOff x="1042920" y="2205000"/>
            <a:chExt cx="2803680" cy="3911760"/>
          </a:xfrm>
        </p:grpSpPr>
        <p:pic>
          <p:nvPicPr>
            <p:cNvPr id="117" name="" descr=""/>
            <p:cNvPicPr/>
            <p:nvPr/>
          </p:nvPicPr>
          <p:blipFill>
            <a:blip r:embed="rId1"/>
            <a:stretch/>
          </p:blipFill>
          <p:spPr>
            <a:xfrm>
              <a:off x="1042920" y="2205000"/>
              <a:ext cx="2803680" cy="391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1042920" y="2205000"/>
              <a:ext cx="2803680" cy="39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dur="indefinite" fill="hold">
                      <p:stCondLst>
                        <p:cond delay="0"/>
                      </p:stCondLst>
                      <p:childTnLst>
                        <p:par>
                          <p:cTn id="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899987611771"/>
                                  </p:iterate>
                                  <p:childTnLst>
                                    <p:animMotion origin="layout" path="M 0.31337 0.04074 C 0.32031 0.02731 0.32743 0.01273 0.33438 -0.00602 C 0.3533 -0.05926 0.35833 -0.11135 0.34444 -0.11922 C 0.33038 -0.12871 0.3033 -0.09121 0.28438 -0.03797 C 0.27431 -0.00996 0.2684 0.01666 0.26632 0.0368 C 0.26337 0.05277 0.26233 0.06875 0.26233 0.0875 C 0.26233 0.14745 0.27535 0.19676 0.29045 0.19676 C 0.30538 0.19676 0.3184 0.14745 0.3184 0.0875 C 0.3184 0.05949 0.31545 0.03264 0.31042 0.01412 C 0.30833 -0.00186 0.3033 -0.01922 0.2974 -0.03658 C 0.27743 -0.09121 0.25035 -0.12871 0.23628 -0.11922 C 0.2224 -0.10996 0.22743 -0.05926 0.2474 -0.00463 C 0.25538 0.02083 0.26632 0.04213 0.27743 0.05671 C 0.28542 0.07014 0.29444 0.08217 0.30642 0.09398 C 0.34236 0.13264 0.3783 0.15 0.38837 0.13402 C 0.3974 0.11805 0.37743 0.07407 0.34132 0.0368 C 0.32639 0.02083 0.31042 0.00879 0.2974 0.00069 C 0.28542 -0.00718 0.27031 -0.01389 0.25434 -0.01783 C 0.21042 -0.03125 0.1724 -0.02732 0.16944 -0.00602 C 0.16545 0.01412 0.19844 0.04074 0.24236 0.05416 C 0.26233 0.05949 0.28142 0.06203 0.29635 0.06064 C 0.30938 0.06064 0.32344 0.0581 0.33837 0.05416 C 0.38229 0.04074 0.41545 0.01273 0.41128 -0.00718 C 0.40833 -0.02732 0.37031 -0.03264 0.32639 -0.01922 C 0.30538 -0.0125 0.28628 -0.00324 0.27344 0.0074 C 0.26233 0.01551 0.25139 0.02477 0.23941 0.0368 C 0.20434 0.07546 0.18333 0.11805 0.1934 0.13402 C 0.20243 0.15 0.23941 0.13264 0.27431 0.09537 C 0.29132 0.07685 0.30538 0.0581 0.31337 0.04074 Z">
                                      <p:cBhvr>
                                        <p:cTn id="91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dur="indefinite" fill="hold">
                      <p:stCondLst>
                        <p:cond delay="indefinite"/>
                      </p:stCondLst>
                      <p:childTnLst>
                        <p:par>
                          <p:cTn id="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3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3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694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3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3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694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dur="indefinite" fill="hold">
                            <p:stCondLst>
                              <p:cond delay="6000"/>
                            </p:stCondLst>
                            <p:childTnLst>
                              <p:par>
                                <p:cTn id="108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3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3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694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dur="indefinite" fill="hold">
                            <p:stCondLst>
                              <p:cond delay="9000"/>
                            </p:stCondLst>
                            <p:childTnLst>
                              <p:par>
                                <p:cTn id="115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3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3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694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¿Cómo es Obeli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belix es muy gor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iene el pelo largo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s pelirroj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934920" y="1981080"/>
            <a:ext cx="3083040" cy="3886200"/>
            <a:chOff x="934920" y="1981080"/>
            <a:chExt cx="3083040" cy="3886200"/>
          </a:xfrm>
        </p:grpSpPr>
        <p:pic>
          <p:nvPicPr>
            <p:cNvPr id="122" name="" descr=""/>
            <p:cNvPicPr/>
            <p:nvPr/>
          </p:nvPicPr>
          <p:blipFill>
            <a:blip r:embed="rId1"/>
            <a:stretch/>
          </p:blipFill>
          <p:spPr>
            <a:xfrm>
              <a:off x="934920" y="1981080"/>
              <a:ext cx="3083040" cy="38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934920" y="1981080"/>
              <a:ext cx="3083040" cy="38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sh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dur="indefinite" fill="hold">
                      <p:stCondLst>
                        <p:cond delay="0"/>
                      </p:stCondLst>
                      <p:childTnLst>
                        <p:par>
                          <p:cTn id="1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dur="indefinite" fill="hold">
                      <p:stCondLst>
                        <p:cond delay="indefinite"/>
                      </p:stCondLst>
                      <p:childTnLst>
                        <p:par>
                          <p:cTn id="1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dur="indefinite" fill="hold">
                            <p:stCondLst>
                              <p:cond delay="2600"/>
                            </p:stCondLst>
                            <p:childTnLst>
                              <p:par>
                                <p:cTn id="13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dur="indefinite" fill="hold">
                            <p:stCondLst>
                              <p:cond delay="5200"/>
                            </p:stCondLst>
                            <p:childTnLst>
                              <p:par>
                                <p:cTn id="14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¿Cómo es Isabel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sabel es rub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iene el pelo largo y li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leva gaf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s delga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s al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549440" y="1981080"/>
            <a:ext cx="1854000" cy="3886200"/>
            <a:chOff x="1549440" y="1981080"/>
            <a:chExt cx="1854000" cy="3886200"/>
          </a:xfrm>
        </p:grpSpPr>
        <p:pic>
          <p:nvPicPr>
            <p:cNvPr id="127" name="" descr=""/>
            <p:cNvPicPr/>
            <p:nvPr/>
          </p:nvPicPr>
          <p:blipFill>
            <a:blip r:embed="rId1"/>
            <a:stretch/>
          </p:blipFill>
          <p:spPr>
            <a:xfrm>
              <a:off x="1549440" y="1981080"/>
              <a:ext cx="1854000" cy="38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1549440" y="1981080"/>
              <a:ext cx="1854000" cy="38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d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dur="indefinite" fill="hold">
                      <p:stCondLst>
                        <p:cond delay="0"/>
                      </p:stCondLst>
                      <p:childTnLst>
                        <p:par>
                          <p:cTn id="1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dur="indefinite" fill="hold">
                      <p:stCondLst>
                        <p:cond delay="indefinite"/>
                      </p:stCondLst>
                      <p:childTnLst>
                        <p:par>
                          <p:cTn id="1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3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16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3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dur="indefinite" fill="hold">
                            <p:stCondLst>
                              <p:cond delay="6000"/>
                            </p:stCondLst>
                            <p:childTnLst>
                              <p:par>
                                <p:cTn id="16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3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dur="indefinite" fill="hold">
                            <p:stCondLst>
                              <p:cond delay="9000"/>
                            </p:stCondLst>
                            <p:childTnLst>
                              <p:par>
                                <p:cTn id="17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3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dur="indefinite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3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¿Cómo es Marta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arta es pelirro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iene el pelo largo y li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iene los ojos marr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s baja y delga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971640" y="1981080"/>
            <a:ext cx="3009960" cy="3886200"/>
            <a:chOff x="971640" y="1981080"/>
            <a:chExt cx="3009960" cy="3886200"/>
          </a:xfrm>
        </p:grpSpPr>
        <p:pic>
          <p:nvPicPr>
            <p:cNvPr id="132" name="" descr=""/>
            <p:cNvPicPr/>
            <p:nvPr/>
          </p:nvPicPr>
          <p:blipFill>
            <a:blip r:embed="rId1"/>
            <a:stretch/>
          </p:blipFill>
          <p:spPr>
            <a:xfrm>
              <a:off x="971640" y="1981080"/>
              <a:ext cx="3009960" cy="38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971640" y="1981080"/>
              <a:ext cx="3009960" cy="38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d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dur="indefinite" fill="hold">
                      <p:stCondLst>
                        <p:cond delay="0"/>
                      </p:stCondLst>
                      <p:childTnLst>
                        <p:par>
                          <p:cTn id="1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dur="indefinite" fill="hold">
                      <p:stCondLst>
                        <p:cond delay="indefinite"/>
                      </p:stCondLst>
                      <p:childTnLst>
                        <p:par>
                          <p:cTn id="1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3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3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3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3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3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3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3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dur="indefinite" fill="hold">
                            <p:stCondLst>
                              <p:cond delay="6000"/>
                            </p:stCondLst>
                            <p:childTnLst>
                              <p:par>
                                <p:cTn id="209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3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3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3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3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dur="indefinite" fill="hold">
                            <p:stCondLst>
                              <p:cond delay="9000"/>
                            </p:stCondLst>
                            <p:childTnLst>
                              <p:par>
                                <p:cTn id="217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3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3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3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dur="indefinite" fill="hold">
                      <p:stCondLst>
                        <p:cond delay="indefinite"/>
                      </p:stCondLst>
                      <p:childTnLst>
                        <p:par>
                          <p:cTn id="2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dur="indefinite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7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0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dur="indefinite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3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¿Cómo es Luis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uis es castañ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iene el pelo liso y cort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iene los ojos ver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s alto y delg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iene pec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335240" y="1981080"/>
            <a:ext cx="2282760" cy="3886200"/>
            <a:chOff x="1335240" y="1981080"/>
            <a:chExt cx="2282760" cy="388620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1335240" y="1981080"/>
              <a:ext cx="2282760" cy="38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1335240" y="1981080"/>
              <a:ext cx="2282760" cy="38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rd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dur="indefinite" fill="hold">
                      <p:stCondLst>
                        <p:cond delay="0"/>
                      </p:stCondLst>
                      <p:childTnLst>
                        <p:par>
                          <p:cTn id="2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 -6 3.33333 -6  C 0.06892 3.33333 -6  0.125 0.02847  0.125 0.06389  C 0.125 0.09907  0.06892 0.12777  3.61111 -6 0.12777  C -0.0691 0.12777  -0.125 0.09907  -0.125 0.06389  C -0.125 0.02847  -0.0691 3.33333 -6  3.61111 -6 3.33333 -6  Z">
                                      <p:cBhvr>
                                        <p:cTn id="250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dur="indefinite" fill="hold">
                      <p:stCondLst>
                        <p:cond delay="indefinite"/>
                      </p:stCondLst>
                      <p:childTnLst>
                        <p:par>
                          <p:cTn id="2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25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dur="indefinite" fill="hold">
                            <p:stCondLst>
                              <p:cond delay="6000"/>
                            </p:stCondLst>
                            <p:childTnLst>
                              <p:par>
                                <p:cTn id="26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dur="indefinite" fill="hold">
                            <p:stCondLst>
                              <p:cond delay="9000"/>
                            </p:stCondLst>
                            <p:childTnLst>
                              <p:par>
                                <p:cTn id="26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dur="indefinite" fill="hold">
                            <p:stCondLst>
                              <p:cond delay="12000"/>
                            </p:stCondLst>
                            <p:childTnLst>
                              <p:par>
                                <p:cTn id="26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¿Cómo es Juanes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57200" y="1980720"/>
            <a:ext cx="4038480" cy="38862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Juanes no es muy al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iene los ojos ver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iene el pelo largo, liso y castañ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o es delgado ni gord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611280" y="1773360"/>
            <a:ext cx="3720960" cy="43178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 rot="720000">
            <a:off x="5797080" y="547560"/>
            <a:ext cx="2592360" cy="792360"/>
          </a:xfrm>
          <a:prstGeom prst="flowChartAlternateProcess">
            <a:avLst/>
          </a:prstGeom>
          <a:solidFill>
            <a:srgbClr val="ffcc00"/>
          </a:solidFill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Un cantante colombi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dur="indefinite" fill="hold">
                      <p:stCondLst>
                        <p:cond delay="0"/>
                      </p:stCondLst>
                      <p:childTnLst>
                        <p:par>
                          <p:cTn id="2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dur="indefinite" fill="hold">
                      <p:stCondLst>
                        <p:cond delay="indefinite"/>
                      </p:stCondLst>
                      <p:childTnLst>
                        <p:par>
                          <p:cTn id="2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dur="indefinite" fill="hold">
                            <p:stCondLst>
                              <p:cond delay="5400"/>
                            </p:stCondLst>
                            <p:childTnLst>
                              <p:par>
                                <p:cTn id="29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dur="indefinite" fill="hold">
                            <p:stCondLst>
                              <p:cond delay="11000"/>
                            </p:stCondLst>
                            <p:childTnLst>
                              <p:par>
                                <p:cTn id="29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dur="indefinite" fill="hold">
                            <p:stCondLst>
                              <p:cond delay="18800"/>
                            </p:stCondLst>
                            <p:childTnLst>
                              <p:par>
                                <p:cTn id="30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8" dur="2000" fill="hold"/>
                                        <p:tgtEl>
                                          <p:spTgt spid="1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09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1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3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9T10:08:34Z</dcterms:created>
  <dc:creator>Familia Rojas</dc:creator>
  <dc:description/>
  <dc:language>en-US</dc:language>
  <cp:lastModifiedBy>Familia Rojas</cp:lastModifiedBy>
  <dcterms:modified xsi:type="dcterms:W3CDTF">2008-11-13T20:25:18Z</dcterms:modified>
  <cp:revision>12</cp:revision>
  <dc:subject/>
  <dc:title>Descripción física</dc:title>
</cp:coreProperties>
</file>